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AA3-3E97-4C56-B175-093588C5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FAF-F2BE-498D-8BD5-BB7B30F5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9F8-3DDB-49D8-A2BD-6DBC113B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3A9-9441-4BD1-91FD-EC355715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EAAF-F727-4B1A-9687-C07DFCA8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A2D5-7AC9-4FD3-84F1-5033CCE2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0DD9-D38E-4F24-8367-527A05DC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089C-FF32-4CD1-BF53-D3B633A8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BF9E-E916-40E8-951D-6B09D2C2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0F8A-1090-4BD1-95CE-0D1A8207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C10B-B7A0-4EB1-9E9A-CE4268CE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A56-0FB6-44F9-80AD-38667B93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77D7-AD44-47E5-951F-DDE408A0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CD2B-FE31-4D3A-B071-65B6046B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5BBD-4C86-4D2F-A8C6-2DB6DA62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4643-831F-4961-9BFC-18AE108C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25D2-14DC-461F-9CCB-424A6100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837-5520-4742-B7EF-3AA18B14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6AA-B42C-47AF-AE58-AA9E6F3D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1C3-9447-4860-9453-815295CB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2B1-985C-4A02-8513-1896A6B2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74F-827A-4620-92C6-9179DEF6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0A5-EFCD-4DE5-A942-9118C280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047-AE36-44DE-8C5A-E326DB9B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3463-F7F0-422A-BFAC-0D934EF756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E65A-EBCB-4E93-8520-078ECCAF9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9898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Показатели оценки деятельности ребенка на компьютере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71640" y="3500280"/>
            <a:ext cx="3672000" cy="2449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Самостоятельность деятельности ребен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аботает самостоятельн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с небольшой помощью педаго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только вместе с педагогом, другими дет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378936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стественность поведения, позы, движений и речи ребенка в процессе за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своение детьми элементарных навыков управления компьютеро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сознанность соотношения действий управления изображением на экран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понимание символа-предме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понимание абстрактных символ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умение пользоваться курсором, клавишами направления и другими клавиш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умение пользоваться «мышкой», другими средствами ввода информаци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8:38:33Z</dcterms:created>
  <dc:creator>User</dc:creator>
  <dc:description/>
  <dc:language>en-US</dc:language>
  <cp:lastModifiedBy>User</cp:lastModifiedBy>
  <dcterms:modified xsi:type="dcterms:W3CDTF">2009-05-27T08:49:39Z</dcterms:modified>
  <cp:revision>2</cp:revision>
  <dc:subject/>
  <dc:title>Основные показатели оценки деятельности ребенка на компьютере </dc:title>
</cp:coreProperties>
</file>